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BEE-ADBC-421C-B7B5-B45B345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63F-A824-433A-964F-5A8D8F4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76C-CCEF-4B07-9B99-9416F81E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DDB-2E39-4828-9F18-F990B833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D08-7D94-42DF-8DF9-DB5231BD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2BE-0239-4617-952D-78F5851F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AB9-EE9B-41CD-AD2E-B4FB8F5F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850-AB7A-414B-83B9-DB3A316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5D6-BFEE-41CE-9201-AEB985DF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F8C-60A7-43CE-8EBD-F7DFBF4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3A0-7E81-4D93-B0D3-B8A86AB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262-A657-4A8B-ACE4-269CAC3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20A-338A-4F70-B78A-A78823BC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ciencemag.org/content/vol294/issue5551/images/large/se5010051002.jpe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Microscopes are instruments designed to produce magnified visual or photographic images of small ob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800" y="4572000"/>
            <a:ext cx="88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microscope must accomplish thre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duce a magnified image of the speci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parate the details in the ima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nder the details visible to the human eye or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icroscopy -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438280" y="304920"/>
          <a:ext cx="39340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39340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7800" y="7632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Micro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93800" y="533520"/>
          <a:ext cx="751212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533520"/>
                    <a:ext cx="751212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sco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0199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se of high energy electrons to examine the fine details of ob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182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jor Types of electron microsco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657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ing electron microscope (S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nning electron microscopy (SEM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specim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hole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Natural tissu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xposed tissu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rrosion 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38560" y="15238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5600" y="49388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M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nicillium islandicu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3040" y="609480"/>
            <a:ext cx="3828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ransmission electron microscopy (TEM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observation of molecules within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magnification of objects in the order of 100, 00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3809880" cy="2425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1447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ull Size Image"/>
          <p:cNvPicPr/>
          <p:nvPr/>
        </p:nvPicPr>
        <p:blipFill>
          <a:blip r:embed="rId1"/>
          <a:stretch/>
        </p:blipFill>
        <p:spPr>
          <a:xfrm>
            <a:off x="228600" y="533520"/>
            <a:ext cx="4267080" cy="39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280"/>
            <a:ext cx="40878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4952880"/>
            <a:ext cx="8305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ve EM images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C3000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vrP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pAVRPTO), immunogold-labeled with the AvrPto antibody. In situ immunogold labeling was done after bacteria were grown i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r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inducing medium for 4 hours, supplemented with (A) no SA, (B) SA for 4 hours, or (C and D) SA for 1 hour. Dark dots are 15-nm gold particles in (A) and (C) and 10-nm gold particles in (B) and (D). Arrows indicate Hrp pili attached to rod-shaped bacteria (only a portion of the bacterium is shown, surrounded by dark stain). Scale bars, 100 n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1:31:52Z</dcterms:created>
  <dc:creator>Xin Li</dc:creator>
  <dc:description/>
  <dc:language>en-US</dc:language>
  <cp:lastModifiedBy>nexhips</cp:lastModifiedBy>
  <dcterms:modified xsi:type="dcterms:W3CDTF">2007-11-28T23:31:14Z</dcterms:modified>
  <cp:revision>21</cp:revision>
  <dc:subject/>
  <dc:title>PowerPoint Presentation</dc:title>
</cp:coreProperties>
</file>